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52827"/>
        <c:axId val="73144839"/>
      </c:barChart>
      <c:catAx>
        <c:axId val="44252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44839"/>
        <c:crosses val="autoZero"/>
        <c:auto val="1"/>
        <c:lblAlgn val="ctr"/>
        <c:lblOffset val="100"/>
        <c:noMultiLvlLbl val="0"/>
      </c:catAx>
      <c:valAx>
        <c:axId val="73144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52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A22-9743-42C8-883B-AD0C4C0F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B35-2845-407B-8E7D-0E89DE2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9E9-9492-43EE-9FF4-AF76C947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888-F709-48C1-81F6-3EECDC1D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D69-4601-4079-8B0D-CD2236D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256-C828-4A9F-9BAE-A4D5B04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38C-54BA-4FB5-9B4B-126DC13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67A-C408-4654-89CF-BF3D10A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AB5-223A-4885-89C4-C2A0B34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912-26D6-4C89-8F0A-4B7A513A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17E-347C-4AB3-904C-20F22ED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066-9D23-472E-A3F3-D8BE438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6DD69-7292-4C25-B8C2-1F0B67EB51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