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68331"/>
        <c:axId val="56802100"/>
      </c:barChart>
      <c:catAx>
        <c:axId val="17068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02100"/>
        <c:crosses val="autoZero"/>
        <c:auto val="1"/>
        <c:lblAlgn val="ctr"/>
        <c:lblOffset val="100"/>
        <c:noMultiLvlLbl val="0"/>
      </c:catAx>
      <c:valAx>
        <c:axId val="56802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68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AE9-4725-4118-ADAD-F5DA8B31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203-D8D2-46ED-8614-952200B4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A57-1DA1-4EDD-A2A6-B24848DA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C91-CD3B-4024-AC0B-B44EC141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9B6-D6CE-4E10-887F-599B4C7E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AC0-D605-489A-9167-3A7518CC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FC1-E484-46AF-8453-B2ACE733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42B-F4AD-45FF-BD55-31F2A920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274-34A8-4DC2-8335-7EE5F4C2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459-66CB-4AA7-B461-BAF8D34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E23-1F81-49B0-83C0-456810E9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D4D-D3F1-4A24-A63E-0F8F364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767C3-4700-42A0-9418-3065132204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