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517976"/>
        <c:axId val="43531503"/>
      </c:barChart>
      <c:catAx>
        <c:axId val="365179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31503"/>
        <c:crosses val="autoZero"/>
        <c:auto val="1"/>
        <c:lblAlgn val="ctr"/>
        <c:lblOffset val="100"/>
        <c:noMultiLvlLbl val="0"/>
      </c:catAx>
      <c:valAx>
        <c:axId val="43531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179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73F-792F-4680-85D8-6137EC9D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BC43-06F0-4E48-9A07-C49324A4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0959-D160-48D7-AC79-A72F1EBD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1F82-2BEA-4323-9709-325C8127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08B3-B8CF-43CC-992A-D5DA3555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90B8-583C-4DBB-9143-F4D88FE1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4F2A-C32E-43B2-BFBB-4FC85760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DC58-A1A8-46F6-B074-C948F02F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69C5-0DF1-498A-8189-BC232B9D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14E4-E6D1-4274-99B1-AFD9A849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276-E9D0-4CA4-8E22-DB785711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C16A-D772-4D01-B3E7-0922DBEB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08E02-F04F-4158-8B96-BAEBE1E248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