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03652"/>
        <c:axId val="84540020"/>
      </c:barChart>
      <c:catAx>
        <c:axId val="9460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0020"/>
        <c:crosses val="autoZero"/>
        <c:auto val="1"/>
        <c:lblAlgn val="ctr"/>
        <c:lblOffset val="100"/>
        <c:noMultiLvlLbl val="0"/>
      </c:catAx>
      <c:valAx>
        <c:axId val="84540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34C-90DF-4B97-BD40-9E9A8553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9C9-F547-40A8-9B03-D1CD48E9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50C-CAB6-4A34-8F94-8794E1B6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6C9-C0E1-4E2D-929D-DAA3B614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1E4-3DA2-4514-A8BB-EE51EA0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68C-C786-4752-817E-216B19C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0F2-1319-44EE-8E4F-726DE17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B4B-7D23-4168-8F34-DABF6E2B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B85-81D9-451C-8789-5B3E87DE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903-7242-4497-ACA8-F27BD7D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AD5-63EF-4EAD-83C8-9566FD0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8AD-F5B9-4B3D-A853-518D1B2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1346-C28A-4CC3-9A67-C291ED863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