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58532"/>
        <c:axId val="1894461"/>
      </c:barChart>
      <c:catAx>
        <c:axId val="48858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4461"/>
        <c:crosses val="autoZero"/>
        <c:auto val="1"/>
        <c:lblAlgn val="ctr"/>
        <c:lblOffset val="100"/>
        <c:noMultiLvlLbl val="0"/>
      </c:catAx>
      <c:valAx>
        <c:axId val="1894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58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5AF-6403-4D43-AD42-071B01E9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CE7-56F5-49B2-821F-09ED11E3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E0D-0BCA-4E13-80AF-6068EDD8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FD7-F1A4-4668-A5BA-D9D271B0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202-9696-41CA-9F33-99862182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5C8-7121-4BF7-88BF-1B11A060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1FC-B622-49B1-BEAE-92469291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457-D39A-41AC-9912-E503F1A9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3B5-670F-4871-B71F-539E6D50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ACB-8592-4175-A8FC-E5389227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AEF-74A0-4B5E-8598-A40012CD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19F-5577-4D94-AEA6-AE0B7F10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6C2A5-830D-4D63-B017-ACEEF2351B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