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5793"/>
        <c:axId val="26888589"/>
      </c:barChart>
      <c:catAx>
        <c:axId val="45157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88589"/>
        <c:crosses val="autoZero"/>
        <c:auto val="1"/>
        <c:lblAlgn val="ctr"/>
        <c:lblOffset val="100"/>
        <c:noMultiLvlLbl val="0"/>
      </c:catAx>
      <c:valAx>
        <c:axId val="26888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57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0BAE-4132-4596-B916-66E8D13F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93A7-7D71-4C43-8B7B-7FCD9C4D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59E-263C-474C-B293-BA9F1AFD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FC7-1E3E-4BEA-9E9E-FD559668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011-3C30-48F6-B4D2-1F05ED33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D26-7802-446D-9431-428EDF38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4CF-B293-41EF-A3E9-0505AB83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09A-71C9-47A1-8C0E-66EDCE46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D64A-7BB7-42A1-94E1-8142CD7C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F75-00C4-4035-A765-3BD2B33B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A503-6560-46D2-9C7A-66467433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CC78-067A-4CB3-81D3-67E00628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1114B-E973-4AD2-B1C9-C4ECBD042C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