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7704"/>
        <c:axId val="3201221"/>
      </c:barChart>
      <c:catAx>
        <c:axId val="80907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221"/>
        <c:crosses val="autoZero"/>
        <c:auto val="1"/>
        <c:lblAlgn val="ctr"/>
        <c:lblOffset val="100"/>
        <c:noMultiLvlLbl val="0"/>
      </c:catAx>
      <c:valAx>
        <c:axId val="3201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7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BA5-61CB-4AF8-B920-619F1F3D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583-E489-4F43-AFB0-3A6E377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414-E0ED-4965-BF42-5997FC8F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725-B991-459B-803A-B6EAFCC8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15B-3F2A-4690-B220-25345397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94C-0834-4C36-BBBC-8C12DB2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81F-5120-44C8-B5F1-E97291A2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F53-4677-4F5D-9B13-C9BDD0D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73E-04C8-4577-BEC2-1007C40B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874-5E4C-4EAA-BC16-2CD1067C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293-F6AC-402F-8005-3E778A72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EB6-FD7F-4B22-A635-A9A0BBE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8EF61-1DF7-4DD3-9868-95F6F6056B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