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88975"/>
        <c:axId val="60842193"/>
      </c:barChart>
      <c:catAx>
        <c:axId val="15888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42193"/>
        <c:crosses val="autoZero"/>
        <c:auto val="1"/>
        <c:lblAlgn val="ctr"/>
        <c:lblOffset val="100"/>
        <c:noMultiLvlLbl val="0"/>
      </c:catAx>
      <c:valAx>
        <c:axId val="60842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8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7FA-B7AF-42B4-9255-E553964F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2CC-389A-4AF1-B53A-CAC3215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FF9-1632-40A8-A3CB-2855FC45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59F-1D2D-44B2-B4C0-1505AFC3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4B6-B202-447A-B2CD-87D9C847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505-9D60-4E69-A843-19777A9B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BA3-A886-4AD6-983F-C33CAE9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937-54DA-4306-9918-0FD1F8BA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047-107B-43DB-B1AD-090CAB4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DE2-2773-465A-A177-36118E8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820-8474-4B28-BDF3-B170997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D14-6897-4CC7-AD0F-B864586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BC397-88F9-4507-9294-853A26216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