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91835"/>
        <c:axId val="29172865"/>
      </c:barChart>
      <c:catAx>
        <c:axId val="59391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72865"/>
        <c:crosses val="autoZero"/>
        <c:auto val="1"/>
        <c:lblAlgn val="ctr"/>
        <c:lblOffset val="100"/>
        <c:noMultiLvlLbl val="0"/>
      </c:catAx>
      <c:valAx>
        <c:axId val="29172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91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426-D4DE-4E41-AC17-6925E3A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C9C-305F-4CAF-B7F5-54C9138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25C-FA0D-46EA-A509-FD084585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04A-84FC-465D-9D9C-37FEDD49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0F2-FA93-436C-BC32-F809B74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A9C-0B3C-4A38-8B3D-5811AC6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CD8-6EE8-4D18-B7EF-646A665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1D0-1A4E-4328-80D9-6003698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043-0DF0-4ACC-99D8-8080EFE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AEB-ABAE-4E4E-A3C5-FB8E3B9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AB1-C1CD-430B-A33A-279BF45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A6F-605C-48B8-910F-D826D43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46853-C105-4A1E-91E4-9BB1D0333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