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542958"/>
        <c:axId val="16826814"/>
      </c:barChart>
      <c:catAx>
        <c:axId val="955429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26814"/>
        <c:crosses val="autoZero"/>
        <c:auto val="1"/>
        <c:lblAlgn val="ctr"/>
        <c:lblOffset val="100"/>
        <c:noMultiLvlLbl val="0"/>
      </c:catAx>
      <c:valAx>
        <c:axId val="16826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429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37C9-CC43-484B-926C-3F197273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E8D-542C-4F32-895C-E16488EE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65A1-6DF3-4856-9CFB-ED626AB3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35C-A3C6-4DCF-90C9-F933EB70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823D-A167-4939-9FDB-D7BB2B54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33F-2F3D-4CF3-B893-0D764F52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9EAF-27FE-48CC-B5BE-D40EC25C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B1D-5F00-4724-82B6-3756854C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F47E-94E3-4C1F-BE80-4CBD913A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4C2D-56F0-418B-A6C6-D3455D84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2E3-95E5-4874-A176-DBCF3A8D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6504-3736-4D1E-BF9C-1813D663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B99E9-3E9B-4154-A849-6AE97EC418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