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86199"/>
        <c:axId val="62765562"/>
      </c:barChart>
      <c:catAx>
        <c:axId val="62186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65562"/>
        <c:crosses val="autoZero"/>
        <c:auto val="1"/>
        <c:lblAlgn val="ctr"/>
        <c:lblOffset val="100"/>
        <c:noMultiLvlLbl val="0"/>
      </c:catAx>
      <c:valAx>
        <c:axId val="62765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86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7B1-C34E-4816-A655-25F2DAFF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1FA0-F104-4551-9E34-2639CF1C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7510-6A9B-41D2-ACA9-593E6889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5F88-E2A2-4C92-A093-6E644792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E2A-3D8A-4043-B0F7-70256A1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ADE-B458-4E0E-A1B1-7EA42BC4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9B1A-7AC8-41F4-9D68-938A329D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A42-0A67-4745-8AD2-A2472D8D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505-69FC-45CA-BCF6-229C35B0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A5CF-0D13-4964-B1BF-94601797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2DE-9227-47AD-ACC6-9A40E8A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8BB-ADAC-4B5E-9137-E97945E5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F99EA-35C2-4331-9F61-ADB346C932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