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4730"/>
        <c:axId val="11164608"/>
      </c:barChart>
      <c:catAx>
        <c:axId val="8704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4608"/>
        <c:crosses val="autoZero"/>
        <c:auto val="1"/>
        <c:lblAlgn val="ctr"/>
        <c:lblOffset val="100"/>
        <c:noMultiLvlLbl val="0"/>
      </c:catAx>
      <c:valAx>
        <c:axId val="11164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0A6-C748-4749-A43D-9E5DAC36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561-DA07-4204-97F7-CDF2EFB2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DC2-354C-4E48-8CA0-079AF90D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B60-2C02-4ACE-ACBE-B0D5CD67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10A-22CF-4826-A710-A42D590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E24-2E50-4B4A-B1E3-8053CFD1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E8A-0072-45F2-A12D-43C6A5C9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036-91D7-45BA-8F67-276AC2D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677-27C3-46FD-B7FB-DB768D1E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610-7619-4AC5-9838-97D8EE2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38A-63B9-46A1-9744-6D58610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4AE-6D4D-412A-A012-12C57EF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5C03E-7598-4D97-8E69-5CAB113E11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