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909704"/>
        <c:axId val="94625564"/>
      </c:barChart>
      <c:catAx>
        <c:axId val="609097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625564"/>
        <c:crosses val="autoZero"/>
        <c:auto val="1"/>
        <c:lblAlgn val="ctr"/>
        <c:lblOffset val="100"/>
        <c:noMultiLvlLbl val="0"/>
      </c:catAx>
      <c:valAx>
        <c:axId val="946255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9097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DA1D-F07F-42EC-BC03-7F362E2F5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1035-BB33-46E4-8CCC-40B7C83F6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FCDC-152C-48F4-9014-7B920CC8E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B4AD-7813-46E9-B0CD-CCE9296CC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FB93-1F42-4CA2-9B2E-8B06D5A07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8217-DB45-440F-A58F-97A2BB8A5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8FB8-EDFD-4951-B7CF-6CD35E285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9247-163F-4BD3-8262-D095D4D33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845A-5D03-45F5-9CB0-09655EAF4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2B13-FF82-48DE-A117-089A75A3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BADA-1130-4FAB-B42E-B6A9E958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3EEF-D64E-4C28-869A-2CF3FD1D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F13D1B-F429-43F2-B35D-35E5047F1AD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