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929041"/>
        <c:axId val="98466281"/>
      </c:barChart>
      <c:catAx>
        <c:axId val="989290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466281"/>
        <c:crosses val="autoZero"/>
        <c:auto val="1"/>
        <c:lblAlgn val="ctr"/>
        <c:lblOffset val="100"/>
        <c:noMultiLvlLbl val="0"/>
      </c:catAx>
      <c:valAx>
        <c:axId val="984662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9290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E4CB-E5C8-4025-9256-3A10D0FFF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7003-1A94-4A01-AFFF-0577D021F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566C-285A-4C96-8540-3D5BAA7CA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BEDB-1888-4AB9-9944-B5056B73B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4FEC-CCDD-4834-9058-0E0CAD6B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343A-1242-4309-A7C2-EB7335D0D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73FC-6732-449E-B792-B66303715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D802-F39A-40C8-9F74-E258C7173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D6A5-0A75-4346-A264-CE0A11F3B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E86C-1641-476C-A4AE-1FB22F74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69BF-101D-4D4E-82A5-C3204645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2CE3-1E9F-4269-B536-28A46C16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32D50F-481D-46E9-A4F4-7D8D7A188B7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