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30835"/>
        <c:axId val="19059486"/>
      </c:barChart>
      <c:catAx>
        <c:axId val="52430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59486"/>
        <c:crosses val="autoZero"/>
        <c:auto val="1"/>
        <c:lblAlgn val="ctr"/>
        <c:lblOffset val="100"/>
        <c:noMultiLvlLbl val="0"/>
      </c:catAx>
      <c:valAx>
        <c:axId val="19059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30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332-6C3B-4C93-BFC2-652552EB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5AC-6F3E-47E4-A8F9-B66FD48D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628-7CC9-4C38-A476-36B7457B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8480-52CB-4538-89C4-DC8A2510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B0D-D9A2-4534-8E47-BD5A7489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6C1-0D86-436A-B3C7-8AF046BC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F70-D666-4950-AAA0-4A4079BA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138-D1CC-4080-82FC-30B3F97F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9A2-5A85-4FC8-99DD-63DB2541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AC2-FDBB-4C95-99E6-BF19306E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382-A9CD-46FD-9F40-02765CEA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1D1-DAEA-476D-8AD1-EEDAB960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00E80-9CBA-40A6-96EB-FD6B07227A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