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9913"/>
        <c:axId val="73680160"/>
      </c:barChart>
      <c:catAx>
        <c:axId val="8409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80160"/>
        <c:crosses val="autoZero"/>
        <c:auto val="1"/>
        <c:lblAlgn val="ctr"/>
        <c:lblOffset val="100"/>
        <c:noMultiLvlLbl val="0"/>
      </c:catAx>
      <c:valAx>
        <c:axId val="73680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9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B9B-9981-4A76-B524-09FCE73F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8E0-1258-432F-8D0E-35BA1DB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6EB-6A41-422A-862F-BBF16CBB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02A-BBEA-41F7-97EB-88B1B343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821-6B48-489B-8A10-79A69CE3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A44-372A-491F-B298-90B673EA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E8A-EAE5-4F35-AA99-03891EDC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2AF-C951-407D-8708-2226384F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E5D-679F-44A0-ADA9-1F4B0189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6A1-F4D5-42F6-B4BA-A6D53F4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505-0CC5-483C-87A8-669EAC5C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C87-2241-4C05-A36F-72C797F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E0368-8B5A-4C85-9076-C2D16715FC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