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624799"/>
        <c:axId val="27640374"/>
      </c:barChart>
      <c:catAx>
        <c:axId val="262479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640374"/>
        <c:crosses val="autoZero"/>
        <c:auto val="1"/>
        <c:lblAlgn val="ctr"/>
        <c:lblOffset val="100"/>
        <c:noMultiLvlLbl val="0"/>
      </c:catAx>
      <c:valAx>
        <c:axId val="2764037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2479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82AF-E616-4290-894A-247BCABB6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991C-86DB-419C-9FB2-0D9A33AEB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7AC8-2CCF-4C76-9A91-FAE5E9EFC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C6F0-CFFC-4275-94F2-CED07755A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ACD2-76A7-47C1-B6D6-739385CA4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8F54-C8D6-4CE6-AF6C-6CEC154C9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17D6-1FF7-4178-92BF-4C12E5E1A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67D1-5763-40F7-A7A4-045FE6A39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15EA-7301-441C-AF83-5E67748FF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C725-E51C-4569-AEB4-CE28BC4BA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5624-3A9A-4DED-8984-E396FB434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22FA-D0CA-45A8-BB35-58BE3115A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9ABDA7-3566-49DF-9B08-D7A932400B7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