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37180"/>
        <c:axId val="17515722"/>
      </c:barChart>
      <c:catAx>
        <c:axId val="76137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15722"/>
        <c:crosses val="autoZero"/>
        <c:auto val="1"/>
        <c:lblAlgn val="ctr"/>
        <c:lblOffset val="100"/>
        <c:noMultiLvlLbl val="0"/>
      </c:catAx>
      <c:valAx>
        <c:axId val="17515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37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2D2-8D9D-44F3-8EE1-064EFAB6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504-80F7-45E8-A35F-FE74B3D5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BFE-8CAB-4D06-B42B-E40172CC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B21-89E4-404F-A328-9B0601EB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2A9-3D82-46C8-8341-D5179B27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06D-7718-4272-814B-E7221F75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D97-CB51-4E8C-8BC7-BEFF3405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D19-5A35-4AAA-BDBA-DABCB2F3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DDE-C8D4-4358-95E1-A3DFEF7C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73D-A647-4BD1-BA03-C0600B71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0EF0-C02A-4DD2-B449-AA06DA6A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03DA-C0AB-432A-90B8-20775400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FD236-D689-40FB-B678-55602A289E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