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04411"/>
        <c:axId val="10934867"/>
      </c:barChart>
      <c:catAx>
        <c:axId val="23204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34867"/>
        <c:crosses val="autoZero"/>
        <c:auto val="1"/>
        <c:lblAlgn val="ctr"/>
        <c:lblOffset val="100"/>
        <c:noMultiLvlLbl val="0"/>
      </c:catAx>
      <c:valAx>
        <c:axId val="10934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04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A71-9AF7-4E77-83EC-2FE4ADA8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54B-EB5B-4081-89AE-18D7FD4B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C28-F0C2-40B2-90E9-E4770D92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04A-2D8C-4373-90A1-A954DB7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C53-42D7-4711-8B82-8D3E935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2AB-697D-42FF-9B5D-5AC00F34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5F6-6CBA-4528-A6F7-B4B4EC94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322-90FE-4E20-B9B1-30A73FBC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3E5-85D7-4888-AD84-4F1960E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AD7-34EA-4669-8C84-50B97641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18F-216A-4AEC-84B5-9107333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42F-9AD8-478F-BFDC-93BFCE6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5ADA5-8A0B-4EAE-8B16-BC11978956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