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35888"/>
        <c:axId val="40593848"/>
      </c:barChart>
      <c:catAx>
        <c:axId val="16935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93848"/>
        <c:crosses val="autoZero"/>
        <c:auto val="1"/>
        <c:lblAlgn val="ctr"/>
        <c:lblOffset val="100"/>
        <c:noMultiLvlLbl val="0"/>
      </c:catAx>
      <c:valAx>
        <c:axId val="40593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35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FF0-25DA-465B-873A-5DE82DD8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A85-62B0-4035-B762-5E7FD581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5E0-85ED-4DE7-BAFA-2A0D2CC2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0E3-95E7-4A81-9C96-AC65DEC4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6FC-2A10-4A37-8035-20BE5FB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666-E3F2-4D47-A73E-84A851BE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FE3-F4CF-444C-A29D-13ECD595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278-6A2C-48D9-857C-2F69F188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643-2662-4683-BAD7-6903763D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E5A-7853-4383-95B2-E58BC8D8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9AD-449A-4354-A7E9-14D656B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30F-6942-4EDB-9241-149974B2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319A7-C7B6-4343-BF0C-EB19CA70F6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