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08856"/>
        <c:axId val="50410847"/>
      </c:barChart>
      <c:catAx>
        <c:axId val="97008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10847"/>
        <c:crosses val="autoZero"/>
        <c:auto val="1"/>
        <c:lblAlgn val="ctr"/>
        <c:lblOffset val="100"/>
        <c:noMultiLvlLbl val="0"/>
      </c:catAx>
      <c:valAx>
        <c:axId val="50410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08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F08-8087-4468-8EEA-96A33292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850-1B96-4B38-95C2-438B91F6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5C3-293D-427A-8312-717FBD79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034-35DF-4976-B739-F6F8F38C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5E5-056A-4CF9-8BFF-298E5B40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CB4-D12D-49C1-80B1-2637243B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46D-C696-4FC6-90F3-C44ADE36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D3E-9A46-45A2-BB75-D8513EA0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FEF-9686-4640-9683-3748D02A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BDD-83B6-4E50-9541-CFE484E3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EA3-D864-47BF-9678-0E3A18C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5DC-5837-44C3-AFE3-0516B6F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152A1-9283-4638-80A0-C8AE5AD3DC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