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17805"/>
        <c:axId val="76122098"/>
      </c:barChart>
      <c:catAx>
        <c:axId val="17217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22098"/>
        <c:crosses val="autoZero"/>
        <c:auto val="1"/>
        <c:lblAlgn val="ctr"/>
        <c:lblOffset val="100"/>
        <c:noMultiLvlLbl val="0"/>
      </c:catAx>
      <c:valAx>
        <c:axId val="76122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7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368-A1EF-4AFD-BA6B-61150048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82C-A7A6-4ED9-B262-93D5BA91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9F-A769-437E-BADB-69DF908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6FC-1855-4E59-816B-AEA2F95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254-07D9-4EEC-840D-4A054B4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4AD-DE09-4863-98CC-ED79C0A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783-48D0-48A7-8885-0851DB7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D06-BFC8-47D8-AACB-68AFE0ED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9E8-C9F9-430A-A780-762AABF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8F9-C421-4CD0-B995-2A2B185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FD8-4A59-4B0B-955B-7687C5D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EAA-4FD4-441C-93E4-6555557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2D9C-D816-4A24-A463-E4D43C2BA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