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594"/>
        <c:axId val="97978618"/>
      </c:barChart>
      <c:catAx>
        <c:axId val="696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78618"/>
        <c:crosses val="autoZero"/>
        <c:auto val="1"/>
        <c:lblAlgn val="ctr"/>
        <c:lblOffset val="100"/>
        <c:noMultiLvlLbl val="0"/>
      </c:catAx>
      <c:valAx>
        <c:axId val="97978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B58-9412-464F-9411-2E67E87F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025-6CD1-4D62-BD65-A14A6B2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967-DEA0-49E9-B5C0-B5CB6947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033-02F4-46EF-ADB1-B99F5FF1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E2F-6C74-4A35-B121-9A4F241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978-2033-4BE0-8A36-4F69BD7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5CE-7C47-4FD5-8BE8-17A055B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175-09FD-4EC6-ABA8-3EB0D30A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5C7-6E63-4267-9A25-C0DA547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713-75F5-43BC-BE33-24A41BEC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B8B-A968-4CED-815B-C382B1E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CF9-0DB6-4992-A5AD-EE1162D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CD96-FF71-4FB2-AE73-17CDA43FCF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