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04072"/>
        <c:axId val="37574523"/>
      </c:barChart>
      <c:catAx>
        <c:axId val="88904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74523"/>
        <c:crosses val="autoZero"/>
        <c:auto val="1"/>
        <c:lblAlgn val="ctr"/>
        <c:lblOffset val="100"/>
        <c:noMultiLvlLbl val="0"/>
      </c:catAx>
      <c:valAx>
        <c:axId val="37574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04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BBF-5CF0-4673-A697-904943D8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F7C-404D-4181-B278-F9C99262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2F9-961F-499A-871A-3B9475C0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23C-1D90-4AD5-82DF-E51034A6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395-D128-4344-9CE8-D272132D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CAC-CD2F-4A20-846B-5B654510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DD2-48BF-4FF0-9EA7-134B5A1B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237-60FF-4FDA-8B00-7E0FCB1D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973-2C9D-40DF-8C5E-AB47A9AC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57F-9F8F-45D9-B865-236AC66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610-52B5-43D5-AA5A-F923401A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169-5977-4F68-A4F6-61B9EDFC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D76BB-26C2-4965-AA1E-7606F00041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