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15783"/>
        <c:axId val="51699933"/>
      </c:barChart>
      <c:catAx>
        <c:axId val="48315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99933"/>
        <c:crosses val="autoZero"/>
        <c:auto val="1"/>
        <c:lblAlgn val="ctr"/>
        <c:lblOffset val="100"/>
        <c:noMultiLvlLbl val="0"/>
      </c:catAx>
      <c:valAx>
        <c:axId val="51699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15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CAC-F4EC-4907-B4A8-0E8B3B22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50B-3B40-4844-AA95-4DF1078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D33-A982-4DC2-8FE5-6495B65C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E1C-D3D2-452A-BFB6-764DDFE3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36A-5421-4E7F-A9BB-14A7CEF5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83A-8765-4733-B87A-0F6B6E0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195-BA9F-4720-8452-B8BD54D6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C0D-C36C-4791-87E1-1E3C621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656-2718-4342-9DCA-980BEBFA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B59-97A9-42DE-97D3-8500F72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020-1DBE-47A4-B7A7-C259B75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7BB-AF54-45B8-B2EE-609E36F8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33750-54B7-47C4-A06F-09D70894D2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